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058-13E3-43AB-ABE3-D32F0CE1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BEB-01E3-451F-AE00-656A08E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DA8-ABF4-4023-88ED-4DAC8D63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3BF-F94F-4920-A000-F325349E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4D0-41ED-4A51-A899-BDFB8BF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1C8-E125-46ED-B153-8CB1CBF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2A9-4671-4274-866D-260612E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675-1B85-4FB3-BC0E-61871431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9C5-A48F-4D5A-8045-FEC5A44A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E2D-EFF9-4CD9-B175-805998F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CD4-0BCD-444E-AD8F-3043F2E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FCD-8A7F-4062-9BB1-3921656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66D-BABE-443B-9C10-5400A2BD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1484280"/>
            <a:ext cx="691380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Chromati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 D</a:t>
            </a: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isp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6886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he cause of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1544760"/>
            <a:ext cx="7086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spersion b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76400" y="1704960"/>
            <a:ext cx="7000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Fiber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fiber%20comparisions" descr=""/>
          <p:cNvPicPr/>
          <p:nvPr/>
        </p:nvPicPr>
        <p:blipFill>
          <a:blip r:embed="rId2"/>
          <a:stretch/>
        </p:blipFill>
        <p:spPr>
          <a:xfrm>
            <a:off x="1219320" y="1741320"/>
            <a:ext cx="716256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Fibers: Attenuation &amp;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630440"/>
            <a:ext cx="8610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hy is measuring Dispersion so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6240" y="1638360"/>
            <a:ext cx="70484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38320" y="1362240"/>
            <a:ext cx="69534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1611360"/>
            <a:ext cx="784872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4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98108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CF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DF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ag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Gratings techniqu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creasing impulse spectral widt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xternal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ulse shaping of current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lit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280" y="1328760"/>
            <a:ext cx="8839440" cy="5376960"/>
            <a:chOff x="152280" y="1328760"/>
            <a:chExt cx="8839440" cy="5376960"/>
          </a:xfrm>
        </p:grpSpPr>
        <p:sp>
          <p:nvSpPr>
            <p:cNvPr id="129" name=""/>
            <p:cNvSpPr/>
            <p:nvPr/>
          </p:nvSpPr>
          <p:spPr>
            <a:xfrm>
              <a:off x="2050920" y="1341360"/>
              <a:ext cx="69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52280" y="1793880"/>
              <a:ext cx="8839440" cy="49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467480" y="1506600"/>
              <a:ext cx="1143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1328760"/>
              <a:ext cx="88394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hat is disper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1838160"/>
            <a:ext cx="69343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362320"/>
            <a:ext cx="83818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660680"/>
            <a:ext cx="228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8760"/>
            <a:ext cx="5923080" cy="3541680"/>
          </a:xfrm>
          <a:custGeom>
            <a:avLst/>
            <a:gdLst/>
            <a:ahLst/>
            <a:rect l="l" t="t" r="r" b="b"/>
            <a:pathLst>
              <a:path w="7462" h="4464">
                <a:moveTo>
                  <a:pt x="0" y="0"/>
                </a:moveTo>
                <a:lnTo>
                  <a:pt x="0" y="4464"/>
                </a:lnTo>
                <a:lnTo>
                  <a:pt x="7462" y="446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3080" y="2444760"/>
            <a:ext cx="70200" cy="6984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67" y="81"/>
                </a:lnTo>
                <a:lnTo>
                  <a:pt x="44" y="79"/>
                </a:lnTo>
                <a:lnTo>
                  <a:pt x="22" y="81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3800" y="6005520"/>
            <a:ext cx="6984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88" y="45"/>
                </a:moveTo>
                <a:lnTo>
                  <a:pt x="0" y="89"/>
                </a:lnTo>
                <a:lnTo>
                  <a:pt x="8" y="68"/>
                </a:lnTo>
                <a:lnTo>
                  <a:pt x="10" y="45"/>
                </a:lnTo>
                <a:lnTo>
                  <a:pt x="8" y="22"/>
                </a:lnTo>
                <a:lnTo>
                  <a:pt x="0" y="0"/>
                </a:lnTo>
                <a:lnTo>
                  <a:pt x="88" y="4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54277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16200" y="358128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620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6200" y="4811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992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92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38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10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468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46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04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160" y="2536920"/>
            <a:ext cx="148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ispersion [ps/n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17240" y="611676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[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556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100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3644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368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920" y="4732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920" y="4119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920" y="3503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920" y="5348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296856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160" y="288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8000" y="2968200"/>
            <a:ext cx="183852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296856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6520" y="313704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46520" y="330660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34750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6520" y="364500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46520" y="38131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6520" y="3983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41511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43210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6520" y="4489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46594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46520" y="4829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6520" y="49975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6520" y="516744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46520" y="5335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46520" y="55054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6520" y="56736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584352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601200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46520" y="2968200"/>
            <a:ext cx="18381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468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468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468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468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468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468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468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468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468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468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468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468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468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468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468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468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468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468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84680" y="2968200"/>
            <a:ext cx="18399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2464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64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2464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2464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464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464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2464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2464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2464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2464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464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2464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2464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2464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464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407340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ZD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38559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1295280"/>
            <a:ext cx="8915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6320" y="1569960"/>
            <a:ext cx="8991360" cy="4983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315200" y="1284120"/>
            <a:ext cx="1752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5840" y="1219320"/>
            <a:ext cx="8553240" cy="5562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14400" y="1600200"/>
            <a:ext cx="7543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5382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naging 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1625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413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iber Dispersion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95320" y="1447920"/>
            <a:ext cx="8248680" cy="534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440160" y="1504800"/>
            <a:ext cx="120816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490760"/>
            <a:ext cx="3778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42000" y="1638360"/>
            <a:ext cx="204624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9560" y="1982880"/>
            <a:ext cx="5252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1490760"/>
            <a:ext cx="2311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1704960"/>
            <a:ext cx="309744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1819440"/>
            <a:ext cx="69152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ffect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0866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619280"/>
            <a:ext cx="7077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60280"/>
            <a:ext cx="558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fferential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1792440"/>
            <a:ext cx="71629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creased Bit 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03360"/>
            <a:ext cx="70102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2:54:50Z</dcterms:created>
  <dc:creator>DN</dc:creator>
  <dc:description/>
  <dc:language>en-US</dc:language>
  <cp:lastModifiedBy>x</cp:lastModifiedBy>
  <dcterms:modified xsi:type="dcterms:W3CDTF">2007-06-07T11:43:31Z</dcterms:modified>
  <cp:revision>25</cp:revision>
  <dc:subject/>
  <dc:title>General information Project description</dc:title>
</cp:coreProperties>
</file>