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13C-6E55-4840-A287-2D08C582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7DD-467E-4939-9850-6FC68BEF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964-3CEA-466B-92E9-5F6BB52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7D3-1221-4953-AC18-45332A43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640-8E34-4718-9352-15FDFCAA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D2A-B001-42A5-9DBF-3D7D2BD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480-51A0-419C-BFA3-F754B90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913-D034-41E7-85D5-6482C94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5B7-9A34-4753-BB8D-0108E9F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529-3EB2-4B7D-908C-E19C014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D9B-4846-416A-94BC-2826F68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FDB-80C5-44CD-B748-F09C8C0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259-6018-436F-AB28-8B177943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3.wmf"/><Relationship Id="rId3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1295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ptical Bud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09880"/>
            <a:ext cx="76201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AF4-20B4-4BBB-9A99-F1BD4D72D3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57360" y="1676520"/>
            <a:ext cx="5834160" cy="18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38098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cable under test will connect between the “launch patch” and the “receive patch”, in order to eliminate any non-cable related atten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191-D22F-439E-9B88-D2787A73F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3348000"/>
            <a:ext cx="5410080" cy="1681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52419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able attenuation = (-3dbm) - (-10dbm) = 7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5305680" cy="20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4C8-F37F-40E4-B6B4-41A5B9D031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7524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thout amplification, the maximum allowable loss in an all-optical network is given by the difference between the launch power and the receiver sensi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owable loss (dB) = T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power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R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sensi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course, this value is true only if we connect transponders directly to the transmission fi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E2D-5497-43AB-91F0-1D548752A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5238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t is very useful to be able to specify in dB an absolute power wi watts or in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42244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do this the power P2 in the dB formula is fixed at some agreed reference value, so the dB value always relates to this reference powe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7180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lows for easy calculation of power at any point in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0388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re the reference power is 1mW the power in an optical signal with a power level P is given in dB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er [dB] = 10 Log [P/1nW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419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D2C-5D01-4C5B-8B4A-53B004E0C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transmitter laser has a measure output power of 2.3mW. What is the laser diode output power expressed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124080"/>
            <a:ext cx="243828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2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352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343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Power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876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mW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410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) = +3.61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813-81C1-4CC7-AF86-75FEC345F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523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B and dBm can be combined in the sa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65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shown a fiber span (inc. splices etc.) has a total attenuation of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4987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the trasmitter output power is +2 dBm what is the reciver input power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581280"/>
            <a:ext cx="14479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6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8098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81280"/>
            <a:ext cx="24937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672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span: att 13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80988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3581280"/>
            <a:ext cx="16765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c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+2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?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56160"/>
            <a:ext cx="8381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Transmitter output power – Total fiber span 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+2 dBm –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-11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CCB-7F69-4BFC-8E12-F097D9113F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835440"/>
            <a:ext cx="1413000" cy="1905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21240"/>
            <a:ext cx="86868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Components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ibe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 9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/12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km a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pcs. at 0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plic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pcs. at 0.1dB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0.15dB)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0.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6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otal attenuatio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.6 dB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7960" y="2128680"/>
          <a:ext cx="40644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6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391520" y="228600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592360" y="2400480"/>
          <a:ext cx="227160" cy="22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2360" y="2400480"/>
                    <a:ext cx="22716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81080" y="2133720"/>
          <a:ext cx="55116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551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190000" y="2128680"/>
          <a:ext cx="406440" cy="766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9000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971800" y="2133720"/>
          <a:ext cx="550800" cy="40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78600" y="2133720"/>
          <a:ext cx="550800" cy="40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86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33880" y="2286000"/>
          <a:ext cx="406440" cy="406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388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43000" y="2286000"/>
          <a:ext cx="406440" cy="40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4300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14400" y="299736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8520" y="2921040"/>
            <a:ext cx="1371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9548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752480"/>
            <a:ext cx="990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175248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136400">
            <a:off x="433800" y="2309040"/>
            <a:ext cx="58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177800">
            <a:off x="8090640" y="2270520"/>
            <a:ext cx="65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2401920"/>
          <a:ext cx="226800" cy="227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520" y="240192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659040" y="2390760"/>
          <a:ext cx="227160" cy="227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590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14800" y="2133720"/>
          <a:ext cx="550800" cy="406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2390760"/>
          <a:ext cx="227160" cy="227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72428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2390760"/>
          <a:ext cx="226800" cy="2271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562720" y="239076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59440" y="2390760"/>
          <a:ext cx="227160" cy="2271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8594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8080" y="25146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BFC-89FF-4F27-B928-37579C809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7760" y="259920"/>
            <a:ext cx="609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219320"/>
            <a:ext cx="79246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table contains some typical numbers, which can be used to approximate optical link budget calculations. If at all possible, real numbers from the network in question should be use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342900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2438280"/>
          <a:ext cx="5105520" cy="3413160"/>
        </p:xfrm>
        <a:graphic>
          <a:graphicData uri="http://schemas.openxmlformats.org/drawingml/2006/table">
            <a:tbl>
              <a:tblPr/>
              <a:tblGrid>
                <a:gridCol w="4035600"/>
                <a:gridCol w="106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for connector l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31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55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plice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distance between spl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afety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) CD penal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3F0-230A-42D0-AEE1-ABE0E36B3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17524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Transmit Power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Receive Sensitivit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vailable Pow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200400"/>
            <a:ext cx="7620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Km of cable    X _________ dB/km   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Connectors      X _________ dB/Con.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Splices            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nk Margin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Repair Splices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fety Margin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xcess Power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FC4-7737-4455-B366-4961767F6F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6680" y="1662120"/>
            <a:ext cx="88106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A59-86C6-429C-8F32-05E2003BF9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04960"/>
            <a:ext cx="8610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n planning a new network or expanding an exi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e with WDM equipment, one of the first things to consid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tween the equipment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tance is related to fiber-optic parameters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tte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cise attenuation calculations should take place at the planning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actual fiber optic cable attenuation should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 calculated based on the cable vendor specification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network segments di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C1E-1F57-427F-805D-48E6EECA1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81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D6E-F1A4-4D21-9A7F-F26C265CD9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power gain o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-milliwatt (dBm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output power and receive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s of power in dB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c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preading of the light pulse in ps/nm*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Error Rate (B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ypical acceptable rate is 10</a:t>
            </a:r>
            <a:r>
              <a:rPr b="0" lang="en-US" sz="2000" spc="-1" strike="noStrike" baseline="44000">
                <a:solidFill>
                  <a:srgbClr val="000000"/>
                </a:solidFill>
                <a:latin typeface="Arial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ignal to Noise Ratio (OSN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ratio of optical signal power to noise power for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Grid Waveleng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tandard for the lasers in DWD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AC8-D058-43C7-AF2A-F57605E9EF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ecibe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171440"/>
            <a:ext cx="86108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decibel (db) represents the logarithmic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two power levels P1 and P2 usually measured in wat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=10log(P1/P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ibels also can measure power relative to certain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example, when P2=0.001 Wa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value units will be called “dBm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hich means power related to 1 milliw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m=10log(P1/1m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DED-3B1C-4BC1-9251-020050C823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= Output power – Input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is affec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s / 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omponents (filters, amplifier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ds 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tion (dirt, oi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39152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088-CE73-4D2A-8B8C-F383410FE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Ra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loss (atten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rsion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Nonlinearities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/ Fiber Aging Penal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the sig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                                           to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200" y="1981080"/>
            <a:ext cx="213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913"/>
                </a:solidFill>
                <a:latin typeface="Arial"/>
              </a:rPr>
              <a:t>High to 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238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36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752480" cy="142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70440" y="4745160"/>
            <a:ext cx="1676520" cy="134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6BF-3ECC-4439-A06C-FF7BED1D4C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371600"/>
            <a:ext cx="7467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en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lse amplitude reduction limits “how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romatic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pulse from different colored light traveling at different speeds with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arization Mode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light pulse from fast and slow axes having different group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4681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608652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631512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452-2D91-44D6-B3C3-A38E4C34FC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 optic cables perform differently at various wavelength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cardinal to set the power meter at the correct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well as to match it with the light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 example, WDM technology uses the 1550 nm reg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more practical to test the cable with the same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1550 nm, if we plan to use it for WDM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DF9-258A-4D19-B403-AA4B67637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1284120"/>
            <a:ext cx="5305320" cy="209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37339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first step is measuring the launched power from the transmitting device. Using “launch patch” instead of a direct connection to the transmitter eliminates the influence of the transmitter - cable connection attenuati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E23-615A-4734-B7EE-B2B301B39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2:09Z</dcterms:modified>
  <cp:revision>24</cp:revision>
  <dc:subject/>
  <dc:title>Prezentacja programu PowerPoint</dc:title>
</cp:coreProperties>
</file>