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8C9-285A-42A3-B53A-67DF19FA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9D7-8D36-4941-B62C-04211F2C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2BF-D2E7-48BB-8014-1032A905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87F-E380-4664-8115-1EFE509A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112-EB04-4261-938D-B7E89B6A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CB6-E5F8-43D8-A2C9-A165685F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2AE-4619-4975-8F7B-5EB0A2B5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AED-DCD4-41C5-8DD9-2B43F81F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0" y="32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D6C-31B0-4C67-A372-31E39075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BC8-4AE8-4BFC-BB25-078B7EF7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C54-CF8B-461B-A934-E0D367CE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DC7-737C-429F-9D22-281BD0F2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7FCA-D91E-47ED-AD4D-F781F9B77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Program%20Files/EXFO/Toolbox/ToolBox6.exe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38280"/>
            <a:ext cx="723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Polarisation Mode 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905280"/>
            <a:ext cx="723888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man.poznan.p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Ki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9-10 Octo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65D-0C76-42F9-9435-9B3E6EEA24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335240"/>
            <a:ext cx="6248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quipment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TB-400 mainframe equipped with GP-4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TB-5500B PMD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LS-5800-xx series CD/PMD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olbox office software 6.21 or higher installed on FTB-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3968640"/>
            <a:ext cx="3429000" cy="2584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42040" y="4273560"/>
            <a:ext cx="180792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886-2388-4D7B-8522-41690A2102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219320"/>
            <a:ext cx="8305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FLS-5800 series source should be powered-up and allowed to complete its self test routine (less than 30 seconds). The user then has to select wavelength range and then activate the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 band (nominally 1510 to 1560nm) and C+L band (nominally 1510 to 1610n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845820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spect and clean the connectors on the appropriate patch-cor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nnect to the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wer-on the FTB-400 and activate the FTB-5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nnect the patch-cord to the input on the FTB-5800 analyser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591-623C-44A1-A8DA-2F0297B94C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73911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FLS-5800 series source should be powered-up and allowed to complete its self test rou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user then has to select wavelength range and then activate the source. There are two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 band (nominally 1510 to 1560nm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+L band (nominally 1510 to 1610n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429000"/>
            <a:ext cx="4419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wer-on the FTB-400 and activate the FTB-5500B PMD analyser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spect and clean the connectors on the appropriate patch-cord and connect to the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687760"/>
            <a:ext cx="4419360" cy="33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BC8-6335-402D-9B04-81E9825CBB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5038560"/>
            <a:ext cx="3848040" cy="128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1447920"/>
            <a:ext cx="74678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eck the input power level on the analyzer software. This is a basic Go/No Go indication to indicate if useable power is present before starting. This will save you time in your testing as it will indicate whe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your source is truly activa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f you are connected to the correct f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a common problem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d can potentially tell you to use longer averaging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if the source signal is 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B3C-178E-4852-8BB5-348E2D971E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5029200" cy="3790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1380960"/>
            <a:ext cx="3809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iber Parameter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ter the length of the link in km, select fibre type and select the wavelength range to match your FLS-5800 source sett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usual settings are either C+L band or O, C &amp; L. Check the display of the FLS-5800 series source to veri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4562640"/>
            <a:ext cx="876240" cy="542880"/>
          </a:xfrm>
          <a:custGeom>
            <a:avLst/>
            <a:gdLst/>
            <a:ahLst/>
            <a:rect l="l" t="t" r="r" b="b"/>
            <a:pathLst>
              <a:path w="552" h="342">
                <a:moveTo>
                  <a:pt x="0" y="0"/>
                </a:moveTo>
                <a:lnTo>
                  <a:pt x="552" y="34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14760" y="3038400"/>
            <a:ext cx="1457280" cy="1123920"/>
          </a:xfrm>
          <a:custGeom>
            <a:avLst/>
            <a:gdLst/>
            <a:ahLst/>
            <a:rect l="l" t="t" r="r" b="b"/>
            <a:pathLst>
              <a:path w="918" h="708">
                <a:moveTo>
                  <a:pt x="0" y="0"/>
                </a:moveTo>
                <a:lnTo>
                  <a:pt x="918" y="708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761-5630-4232-B90D-97E5EA1A29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1295280"/>
            <a:ext cx="38102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 begin a measurement, press the </a:t>
            </a: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REEN</a:t>
            </a:r>
            <a:r>
              <a:rPr b="0" lang="pl-PL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rt button. The software automatically switches to the Results Graph screen. Note - This screen shot shows the typical data AFTER acquisition has finished and the data analy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38480" y="2282760"/>
            <a:ext cx="4953240" cy="373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AB5-2B3E-43BF-A3A6-DED05779CD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038480" y="2282760"/>
            <a:ext cx="4953240" cy="373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1219320"/>
            <a:ext cx="37339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output of the measurement gives the resultant interferogram, the PMD Delay in [ps] and the PMD Coefficient in [ps/Sqrt_km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ditional information included in the output includes 2nd Order PMD, Length of sample and Wavelength range over which measurement has been per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EC2-DFC9-43B3-B818-8A6B937115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2286000" cy="8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B2E-2707-4F51-A9F4-7E4F4E00E3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12:33Z</dcterms:created>
  <dc:creator>Piotrek</dc:creator>
  <dc:description/>
  <dc:language>en-US</dc:language>
  <cp:lastModifiedBy>x</cp:lastModifiedBy>
  <dcterms:modified xsi:type="dcterms:W3CDTF">2007-06-07T11:48:01Z</dcterms:modified>
  <cp:revision>25</cp:revision>
  <dc:subject/>
  <dc:title>Prezentacja programu PowerPoint</dc:title>
</cp:coreProperties>
</file>